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7DCC-94DE-497B-909C-A9A24D0B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F9D1-9CCF-4691-8F5F-3B76A2A7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46D-3A96-4096-B2BE-3E28181F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EEC-4CA1-467B-9B67-B3F9013E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65C-948B-4EB6-A1DD-1959E06F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F19-23FA-475E-8631-1CDF9542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A8D-7923-4A4F-B029-833F6E23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F620-BE6D-47CE-9FCB-4168DAFC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6C0-CC33-4428-9DEB-350C6134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9E7-A306-4FE1-8F99-CDA32B0A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D5C-936E-4748-800F-E61A76E1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C59-4258-48A0-A034-ADFC9B1B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6A20-DCDF-46A2-8A13-CF392330E3F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6.png"/><Relationship Id="rId4" Type="http://schemas.openxmlformats.org/officeDocument/2006/relationships/image" Target="../media/image24.png"/><Relationship Id="rId5" Type="http://schemas.openxmlformats.org/officeDocument/2006/relationships/image" Target="../media/image8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152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50720" y="1914480"/>
            <a:ext cx="90828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4" descr=""/>
          <p:cNvPicPr/>
          <p:nvPr/>
        </p:nvPicPr>
        <p:blipFill>
          <a:blip r:embed="rId4"/>
          <a:stretch/>
        </p:blipFill>
        <p:spPr>
          <a:xfrm>
            <a:off x="5516640" y="2865600"/>
            <a:ext cx="340812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1103400" y="5486400"/>
            <a:ext cx="7467480" cy="646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2544840" y="3408480"/>
            <a:ext cx="1365120" cy="46188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1762200" y="2932200"/>
            <a:ext cx="2127240" cy="46332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3321000" y="2154240"/>
            <a:ext cx="646200" cy="4636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920880" y="2401920"/>
            <a:ext cx="5089320" cy="61596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2"/>
          <p:cNvSpPr/>
          <p:nvPr/>
        </p:nvSpPr>
        <p:spPr>
          <a:xfrm>
            <a:off x="2330280" y="2565360"/>
            <a:ext cx="28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rc 13"/>
          <p:cNvSpPr/>
          <p:nvPr/>
        </p:nvSpPr>
        <p:spPr>
          <a:xfrm>
            <a:off x="2276640" y="2565360"/>
            <a:ext cx="126720" cy="358920"/>
          </a:xfrm>
          <a:custGeom>
            <a:avLst/>
            <a:gdLst/>
            <a:ahLst/>
            <a:rect l="l" t="t" r="r" b="b"/>
            <a:pathLst>
              <a:path stroke="0" w="127298" h="360040">
                <a:moveTo>
                  <a:pt x="63649" y="0"/>
                </a:moveTo>
                <a:cubicBezTo>
                  <a:pt x="93900" y="0"/>
                  <a:pt x="119972" y="60222"/>
                  <a:pt x="126015" y="144058"/>
                </a:cubicBezTo>
                <a:cubicBezTo>
                  <a:pt x="127729" y="167832"/>
                  <a:pt x="127726" y="192341"/>
                  <a:pt x="126006" y="216112"/>
                </a:cubicBezTo>
                <a:cubicBezTo>
                  <a:pt x="119922" y="300192"/>
                  <a:pt x="93699" y="360434"/>
                  <a:pt x="63356" y="360038"/>
                </a:cubicBezTo>
                <a:cubicBezTo>
                  <a:pt x="63454" y="300032"/>
                  <a:pt x="63551" y="240026"/>
                  <a:pt x="63649" y="180020"/>
                </a:cubicBezTo>
                <a:lnTo>
                  <a:pt x="63649" y="0"/>
                </a:lnTo>
                <a:close/>
              </a:path>
              <a:path fill="none" w="127298" h="360040">
                <a:moveTo>
                  <a:pt x="63649" y="0"/>
                </a:moveTo>
                <a:cubicBezTo>
                  <a:pt x="93900" y="0"/>
                  <a:pt x="119972" y="60222"/>
                  <a:pt x="126015" y="144058"/>
                </a:cubicBezTo>
                <a:cubicBezTo>
                  <a:pt x="127729" y="167832"/>
                  <a:pt x="127726" y="192341"/>
                  <a:pt x="126006" y="216112"/>
                </a:cubicBezTo>
                <a:cubicBezTo>
                  <a:pt x="119922" y="300192"/>
                  <a:pt x="93699" y="360434"/>
                  <a:pt x="63356" y="36003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16"/>
          <p:cNvSpPr/>
          <p:nvPr/>
        </p:nvSpPr>
        <p:spPr>
          <a:xfrm>
            <a:off x="2446200" y="3394080"/>
            <a:ext cx="132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18"/>
          <p:cNvSpPr/>
          <p:nvPr/>
        </p:nvSpPr>
        <p:spPr>
          <a:xfrm>
            <a:off x="3205080" y="4272120"/>
            <a:ext cx="132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2" descr=""/>
          <p:cNvPicPr/>
          <p:nvPr/>
        </p:nvPicPr>
        <p:blipFill>
          <a:blip r:embed="rId10"/>
          <a:stretch/>
        </p:blipFill>
        <p:spPr>
          <a:xfrm>
            <a:off x="2754360" y="3787920"/>
            <a:ext cx="1884240" cy="46332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20" descr=""/>
          <p:cNvPicPr/>
          <p:nvPr/>
        </p:nvPicPr>
        <p:blipFill>
          <a:blip r:embed="rId11"/>
          <a:stretch/>
        </p:blipFill>
        <p:spPr>
          <a:xfrm>
            <a:off x="5516640" y="3730680"/>
            <a:ext cx="3408120" cy="5428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12"/>
          <a:stretch/>
        </p:blipFill>
        <p:spPr>
          <a:xfrm>
            <a:off x="3449520" y="4265640"/>
            <a:ext cx="1158840" cy="4636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13"/>
          <a:stretch/>
        </p:blipFill>
        <p:spPr>
          <a:xfrm>
            <a:off x="3218040" y="4597560"/>
            <a:ext cx="2273040" cy="46332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14"/>
          <a:stretch/>
        </p:blipFill>
        <p:spPr>
          <a:xfrm>
            <a:off x="4302000" y="5072040"/>
            <a:ext cx="1158840" cy="46368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24" descr=""/>
          <p:cNvPicPr/>
          <p:nvPr/>
        </p:nvPicPr>
        <p:blipFill>
          <a:blip r:embed="rId15"/>
          <a:stretch/>
        </p:blipFill>
        <p:spPr>
          <a:xfrm>
            <a:off x="5516640" y="4651200"/>
            <a:ext cx="3408120" cy="54324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6"/>
          <a:stretch/>
        </p:blipFill>
        <p:spPr>
          <a:xfrm>
            <a:off x="3873600" y="2146320"/>
            <a:ext cx="71892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17"/>
          <a:stretch/>
        </p:blipFill>
        <p:spPr>
          <a:xfrm>
            <a:off x="4516560" y="2152800"/>
            <a:ext cx="645840" cy="461880"/>
          </a:xfrm>
          <a:prstGeom prst="rect">
            <a:avLst/>
          </a:prstGeom>
          <a:ln w="0">
            <a:noFill/>
          </a:ln>
        </p:spPr>
      </p:pic>
      <p:sp>
        <p:nvSpPr>
          <p:cNvPr id="64" name="Straight Connector 27"/>
          <p:cNvSpPr/>
          <p:nvPr/>
        </p:nvSpPr>
        <p:spPr>
          <a:xfrm>
            <a:off x="3914640" y="5092560"/>
            <a:ext cx="132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2" descr=""/>
          <p:cNvPicPr/>
          <p:nvPr/>
        </p:nvPicPr>
        <p:blipFill>
          <a:blip r:embed="rId18"/>
          <a:stretch/>
        </p:blipFill>
        <p:spPr>
          <a:xfrm>
            <a:off x="3794040" y="2550960"/>
            <a:ext cx="828720" cy="4636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9"/>
          <a:stretch/>
        </p:blipFill>
        <p:spPr>
          <a:xfrm>
            <a:off x="4484520" y="2554200"/>
            <a:ext cx="6699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08092E-006 L -0.00746 0.12555 E">
                                      <p:cBhvr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46821E-007 L -0.00347 0.25087 E">
                                      <p:cBhvr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8326440" cy="64620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69" name="TextBox 4" descr=""/>
          <p:cNvPicPr/>
          <p:nvPr/>
        </p:nvPicPr>
        <p:blipFill>
          <a:blip r:embed="rId4"/>
          <a:stretch/>
        </p:blipFill>
        <p:spPr>
          <a:xfrm>
            <a:off x="5657760" y="2590920"/>
            <a:ext cx="3357720" cy="9442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5"/>
          <a:stretch/>
        </p:blipFill>
        <p:spPr>
          <a:xfrm>
            <a:off x="1103400" y="5486400"/>
            <a:ext cx="7467480" cy="64620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6"/>
          <a:stretch/>
        </p:blipFill>
        <p:spPr>
          <a:xfrm>
            <a:off x="2552760" y="2879640"/>
            <a:ext cx="1000080" cy="45720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7"/>
          <a:stretch/>
        </p:blipFill>
        <p:spPr>
          <a:xfrm>
            <a:off x="2023920" y="3379680"/>
            <a:ext cx="828720" cy="45720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8"/>
          <a:stretch/>
        </p:blipFill>
        <p:spPr>
          <a:xfrm>
            <a:off x="4359240" y="3373560"/>
            <a:ext cx="64620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9"/>
          <a:stretch/>
        </p:blipFill>
        <p:spPr>
          <a:xfrm>
            <a:off x="920880" y="2401920"/>
            <a:ext cx="1199880" cy="938160"/>
          </a:xfrm>
          <a:prstGeom prst="rect">
            <a:avLst/>
          </a:prstGeom>
          <a:ln w="0">
            <a:noFill/>
          </a:ln>
        </p:spPr>
      </p:pic>
      <p:sp>
        <p:nvSpPr>
          <p:cNvPr id="75" name="Straight Connector 12"/>
          <p:cNvSpPr/>
          <p:nvPr/>
        </p:nvSpPr>
        <p:spPr>
          <a:xfrm>
            <a:off x="2124000" y="3338640"/>
            <a:ext cx="28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rc 13"/>
          <p:cNvSpPr/>
          <p:nvPr/>
        </p:nvSpPr>
        <p:spPr>
          <a:xfrm>
            <a:off x="1808280" y="2565360"/>
            <a:ext cx="126720" cy="771480"/>
          </a:xfrm>
          <a:custGeom>
            <a:avLst/>
            <a:gdLst/>
            <a:ahLst/>
            <a:rect l="l" t="t" r="r" b="b"/>
            <a:pathLst>
              <a:path stroke="0" w="127298" h="772032">
                <a:moveTo>
                  <a:pt x="63649" y="0"/>
                </a:moveTo>
                <a:cubicBezTo>
                  <a:pt x="96468" y="0"/>
                  <a:pt x="123906" y="151336"/>
                  <a:pt x="127012" y="349479"/>
                </a:cubicBezTo>
                <a:cubicBezTo>
                  <a:pt x="127394" y="373828"/>
                  <a:pt x="127393" y="398341"/>
                  <a:pt x="127010" y="422689"/>
                </a:cubicBezTo>
                <a:cubicBezTo>
                  <a:pt x="123870" y="622231"/>
                  <a:pt x="96069" y="773995"/>
                  <a:pt x="63020" y="772013"/>
                </a:cubicBezTo>
                <a:cubicBezTo>
                  <a:pt x="63230" y="643347"/>
                  <a:pt x="63439" y="514682"/>
                  <a:pt x="63649" y="386016"/>
                </a:cubicBezTo>
                <a:lnTo>
                  <a:pt x="63649" y="0"/>
                </a:lnTo>
                <a:close/>
              </a:path>
              <a:path fill="none" w="127298" h="772032">
                <a:moveTo>
                  <a:pt x="63649" y="0"/>
                </a:moveTo>
                <a:cubicBezTo>
                  <a:pt x="96468" y="0"/>
                  <a:pt x="123906" y="151336"/>
                  <a:pt x="127012" y="349479"/>
                </a:cubicBezTo>
                <a:cubicBezTo>
                  <a:pt x="127394" y="373828"/>
                  <a:pt x="127393" y="398341"/>
                  <a:pt x="127010" y="422689"/>
                </a:cubicBezTo>
                <a:cubicBezTo>
                  <a:pt x="123870" y="622231"/>
                  <a:pt x="96069" y="773995"/>
                  <a:pt x="63020" y="77201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2" descr=""/>
          <p:cNvPicPr/>
          <p:nvPr/>
        </p:nvPicPr>
        <p:blipFill>
          <a:blip r:embed="rId10"/>
          <a:stretch/>
        </p:blipFill>
        <p:spPr>
          <a:xfrm>
            <a:off x="2909880" y="3389400"/>
            <a:ext cx="646200" cy="46332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11"/>
          <a:stretch/>
        </p:blipFill>
        <p:spPr>
          <a:xfrm>
            <a:off x="3780000" y="2879640"/>
            <a:ext cx="493560" cy="463680"/>
          </a:xfrm>
          <a:prstGeom prst="rect">
            <a:avLst/>
          </a:prstGeom>
          <a:ln w="0">
            <a:noFill/>
          </a:ln>
        </p:spPr>
      </p:pic>
      <p:sp>
        <p:nvSpPr>
          <p:cNvPr id="79" name="Straight Connector 16"/>
          <p:cNvSpPr/>
          <p:nvPr/>
        </p:nvSpPr>
        <p:spPr>
          <a:xfrm flipV="1">
            <a:off x="2124000" y="2557080"/>
            <a:ext cx="0" cy="121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18"/>
          <p:cNvSpPr/>
          <p:nvPr/>
        </p:nvSpPr>
        <p:spPr>
          <a:xfrm>
            <a:off x="4383000" y="3355920"/>
            <a:ext cx="0" cy="44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2" descr=""/>
          <p:cNvPicPr/>
          <p:nvPr/>
        </p:nvPicPr>
        <p:blipFill>
          <a:blip r:embed="rId12"/>
          <a:stretch/>
        </p:blipFill>
        <p:spPr>
          <a:xfrm>
            <a:off x="2022480" y="2478240"/>
            <a:ext cx="3048120" cy="463320"/>
          </a:xfrm>
          <a:prstGeom prst="rect">
            <a:avLst/>
          </a:prstGeom>
          <a:ln w="0">
            <a:noFill/>
          </a:ln>
        </p:spPr>
      </p:pic>
      <p:sp>
        <p:nvSpPr>
          <p:cNvPr id="82" name="Content Placeholder 2"/>
          <p:cNvSpPr/>
          <p:nvPr/>
        </p:nvSpPr>
        <p:spPr>
          <a:xfrm>
            <a:off x="3662280" y="4254480"/>
            <a:ext cx="23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main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2" descr=""/>
          <p:cNvPicPr/>
          <p:nvPr/>
        </p:nvPicPr>
        <p:blipFill>
          <a:blip r:embed="rId13"/>
          <a:stretch/>
        </p:blipFill>
        <p:spPr>
          <a:xfrm>
            <a:off x="4241880" y="2865600"/>
            <a:ext cx="652320" cy="46332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14"/>
          <a:stretch/>
        </p:blipFill>
        <p:spPr>
          <a:xfrm>
            <a:off x="3624120" y="3360600"/>
            <a:ext cx="646200" cy="463680"/>
          </a:xfrm>
          <a:prstGeom prst="rect">
            <a:avLst/>
          </a:prstGeom>
          <a:ln w="0">
            <a:noFill/>
          </a:ln>
        </p:spPr>
      </p:pic>
      <p:sp>
        <p:nvSpPr>
          <p:cNvPr id="85" name="Arc 28"/>
          <p:cNvSpPr/>
          <p:nvPr/>
        </p:nvSpPr>
        <p:spPr>
          <a:xfrm flipH="1">
            <a:off x="1393200" y="2567160"/>
            <a:ext cx="127080" cy="771480"/>
          </a:xfrm>
          <a:custGeom>
            <a:avLst/>
            <a:gdLst/>
            <a:ahLst/>
            <a:rect l="l" t="t" r="r" b="b"/>
            <a:pathLst>
              <a:path stroke="0" w="127298" h="772032">
                <a:moveTo>
                  <a:pt x="63649" y="0"/>
                </a:moveTo>
                <a:cubicBezTo>
                  <a:pt x="96468" y="0"/>
                  <a:pt x="123906" y="151336"/>
                  <a:pt x="127012" y="349479"/>
                </a:cubicBezTo>
                <a:cubicBezTo>
                  <a:pt x="127394" y="373828"/>
                  <a:pt x="127393" y="398341"/>
                  <a:pt x="127010" y="422689"/>
                </a:cubicBezTo>
                <a:cubicBezTo>
                  <a:pt x="123870" y="622231"/>
                  <a:pt x="96069" y="773995"/>
                  <a:pt x="63020" y="772013"/>
                </a:cubicBezTo>
                <a:cubicBezTo>
                  <a:pt x="63230" y="643347"/>
                  <a:pt x="63439" y="514682"/>
                  <a:pt x="63649" y="386016"/>
                </a:cubicBezTo>
                <a:lnTo>
                  <a:pt x="63649" y="0"/>
                </a:lnTo>
                <a:close/>
              </a:path>
              <a:path fill="none" w="127298" h="772032">
                <a:moveTo>
                  <a:pt x="63649" y="0"/>
                </a:moveTo>
                <a:cubicBezTo>
                  <a:pt x="96468" y="0"/>
                  <a:pt x="123906" y="151336"/>
                  <a:pt x="127012" y="349479"/>
                </a:cubicBezTo>
                <a:cubicBezTo>
                  <a:pt x="127394" y="373828"/>
                  <a:pt x="127393" y="398341"/>
                  <a:pt x="127010" y="422689"/>
                </a:cubicBezTo>
                <a:cubicBezTo>
                  <a:pt x="123870" y="622231"/>
                  <a:pt x="96069" y="773995"/>
                  <a:pt x="63020" y="77201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Straight Arrow Connector 29"/>
          <p:cNvCxnSpPr>
            <a:endCxn id="73" idx="2"/>
          </p:cNvCxnSpPr>
          <p:nvPr/>
        </p:nvCxnSpPr>
        <p:spPr>
          <a:xfrm flipV="1">
            <a:off x="4682880" y="3830400"/>
            <a:ext cx="1080" cy="452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pic>
        <p:nvPicPr>
          <p:cNvPr id="87" name="TextBox 31" descr=""/>
          <p:cNvPicPr/>
          <p:nvPr/>
        </p:nvPicPr>
        <p:blipFill>
          <a:blip r:embed="rId15"/>
          <a:stretch/>
        </p:blipFill>
        <p:spPr>
          <a:xfrm>
            <a:off x="5657760" y="3754440"/>
            <a:ext cx="32670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ontent Placeholder 2" descr=""/>
          <p:cNvPicPr/>
          <p:nvPr/>
        </p:nvPicPr>
        <p:blipFill>
          <a:blip r:embed="rId2"/>
          <a:stretch/>
        </p:blipFill>
        <p:spPr>
          <a:xfrm>
            <a:off x="590400" y="1652760"/>
            <a:ext cx="8053560" cy="64584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2" descr=""/>
          <p:cNvPicPr/>
          <p:nvPr/>
        </p:nvPicPr>
        <p:blipFill>
          <a:blip r:embed="rId4"/>
          <a:stretch/>
        </p:blipFill>
        <p:spPr>
          <a:xfrm>
            <a:off x="3927600" y="2562120"/>
            <a:ext cx="1877760" cy="78768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5"/>
          <a:stretch/>
        </p:blipFill>
        <p:spPr>
          <a:xfrm>
            <a:off x="1316160" y="4005360"/>
            <a:ext cx="2921040" cy="46332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2" descr=""/>
          <p:cNvPicPr/>
          <p:nvPr/>
        </p:nvPicPr>
        <p:blipFill>
          <a:blip r:embed="rId6"/>
          <a:stretch/>
        </p:blipFill>
        <p:spPr>
          <a:xfrm>
            <a:off x="1865160" y="3382920"/>
            <a:ext cx="1195560" cy="63972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7"/>
          <a:stretch/>
        </p:blipFill>
        <p:spPr>
          <a:xfrm>
            <a:off x="1320840" y="2736720"/>
            <a:ext cx="2139840" cy="46368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2" descr=""/>
          <p:cNvPicPr/>
          <p:nvPr/>
        </p:nvPicPr>
        <p:blipFill>
          <a:blip r:embed="rId8"/>
          <a:stretch/>
        </p:blipFill>
        <p:spPr>
          <a:xfrm>
            <a:off x="920880" y="2230560"/>
            <a:ext cx="3717720" cy="64584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2" descr=""/>
          <p:cNvPicPr/>
          <p:nvPr/>
        </p:nvPicPr>
        <p:blipFill>
          <a:blip r:embed="rId9"/>
          <a:stretch/>
        </p:blipFill>
        <p:spPr>
          <a:xfrm>
            <a:off x="3938760" y="3716280"/>
            <a:ext cx="3962160" cy="8668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14" descr=""/>
          <p:cNvPicPr/>
          <p:nvPr/>
        </p:nvPicPr>
        <p:blipFill>
          <a:blip r:embed="rId10"/>
          <a:stretch/>
        </p:blipFill>
        <p:spPr>
          <a:xfrm>
            <a:off x="6053040" y="4932360"/>
            <a:ext cx="245772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04:36Z</dcterms:modified>
  <cp:revision>85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