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790-D786-4291-AC8D-DA48C3E5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25B-4C70-4C57-A2A8-A6B54BDD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411-6B60-47CA-8CCE-A64F76B0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AE9-21D5-4F41-87AB-1F35B747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BDE-A248-4185-8433-72B7B661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B6C-37FF-420E-925B-16C09B56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500-3EF5-4881-B4BA-70FD86E7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624-9A81-4AA5-8208-9021A7F4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D43-E1CE-409E-ADED-8BEE9259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539-955E-4F54-9234-DDF6DDE4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298-B206-4BAF-A7F2-91562423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9C7-D47D-42E4-A2F8-7A580360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7A5F-2B2A-4B31-B8BA-4DEF7B9111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152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079640"/>
            <a:ext cx="7851960" cy="13777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920880" y="3481560"/>
            <a:ext cx="7851600" cy="1292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762120" y="2451240"/>
            <a:ext cx="41083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19" descr=""/>
          <p:cNvPicPr/>
          <p:nvPr/>
        </p:nvPicPr>
        <p:blipFill>
          <a:blip r:embed="rId5"/>
          <a:stretch/>
        </p:blipFill>
        <p:spPr>
          <a:xfrm>
            <a:off x="6516720" y="2712960"/>
            <a:ext cx="1994040" cy="9637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884160" y="4705200"/>
            <a:ext cx="79120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768240" y="2371680"/>
            <a:ext cx="822600" cy="6462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3"/>
          <a:stretch/>
        </p:blipFill>
        <p:spPr>
          <a:xfrm>
            <a:off x="871560" y="1646280"/>
            <a:ext cx="7553160" cy="54756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938160" y="1079640"/>
            <a:ext cx="6815160" cy="46332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847800" y="2889360"/>
            <a:ext cx="1834920" cy="46332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841320" y="3449520"/>
            <a:ext cx="3846600" cy="4636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7"/>
          <a:stretch/>
        </p:blipFill>
        <p:spPr>
          <a:xfrm>
            <a:off x="890640" y="4151160"/>
            <a:ext cx="380988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8"/>
          <a:stretch/>
        </p:blipFill>
        <p:spPr>
          <a:xfrm>
            <a:off x="871560" y="4664160"/>
            <a:ext cx="380988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9"/>
          <a:stretch/>
        </p:blipFill>
        <p:spPr>
          <a:xfrm>
            <a:off x="858960" y="5303880"/>
            <a:ext cx="183492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0"/>
          <a:stretch/>
        </p:blipFill>
        <p:spPr>
          <a:xfrm>
            <a:off x="2706840" y="5254560"/>
            <a:ext cx="38401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29:31Z</dcterms:modified>
  <cp:revision>11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