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087-B9D6-41FF-AA59-7071AFD6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403-C6E8-44D7-BB66-9D861BDD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A6C-A7CA-448E-BBA5-7BF4391C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696-F540-4335-99F6-D17B444C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347-F9B7-4E3C-9377-54B64CDE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627-E7E2-4600-B24E-D03D946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F17-9547-4FDB-B322-7E0694B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64D-1ACE-490A-9F6E-141FD306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02C-E4F4-4355-A8CC-EA1579F9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A5B-99DB-4CE8-A3D7-ADCA1BE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736-8230-4CE9-A050-602BE6D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1A1-4337-4D92-872D-0855457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C59-6674-429C-9FAE-E8EA04A071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646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69800" y="2419200"/>
            <a:ext cx="90828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90640" y="577224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517760" y="4979880"/>
            <a:ext cx="38224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414440" y="226224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2109960" y="315108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35240" y="3962520"/>
            <a:ext cx="52909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0" descr=""/>
          <p:cNvPicPr/>
          <p:nvPr/>
        </p:nvPicPr>
        <p:blipFill>
          <a:blip r:embed="rId9"/>
          <a:stretch/>
        </p:blipFill>
        <p:spPr>
          <a:xfrm>
            <a:off x="5657760" y="4559400"/>
            <a:ext cx="288936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206360" y="4479840"/>
            <a:ext cx="39085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1206360" y="5473800"/>
            <a:ext cx="39988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895320" y="4267080"/>
            <a:ext cx="509760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523880" y="3627360"/>
            <a:ext cx="38228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395360" y="938160"/>
            <a:ext cx="518148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3181320" y="1414440"/>
            <a:ext cx="5181480" cy="6336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225440" y="2090880"/>
            <a:ext cx="532764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0" descr=""/>
          <p:cNvPicPr/>
          <p:nvPr/>
        </p:nvPicPr>
        <p:blipFill>
          <a:blip r:embed="rId7"/>
          <a:stretch/>
        </p:blipFill>
        <p:spPr>
          <a:xfrm>
            <a:off x="5851440" y="3176640"/>
            <a:ext cx="2884680" cy="11826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189080" y="3164040"/>
            <a:ext cx="3906720" cy="645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170000" y="401148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2571840"/>
            <a:ext cx="526104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3" descr=""/>
          <p:cNvPicPr/>
          <p:nvPr/>
        </p:nvPicPr>
        <p:blipFill>
          <a:blip r:embed="rId11"/>
          <a:stretch/>
        </p:blipFill>
        <p:spPr>
          <a:xfrm>
            <a:off x="5851440" y="4950000"/>
            <a:ext cx="288468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1341360" y="4979880"/>
            <a:ext cx="52308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3"/>
          <a:stretch/>
        </p:blipFill>
        <p:spPr>
          <a:xfrm>
            <a:off x="1328760" y="5462640"/>
            <a:ext cx="523728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1700280" y="5827680"/>
            <a:ext cx="1049400" cy="463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5"/>
          <a:stretch/>
        </p:blipFill>
        <p:spPr>
          <a:xfrm>
            <a:off x="2779560" y="5827680"/>
            <a:ext cx="1127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463680" y="1914480"/>
            <a:ext cx="914400" cy="6462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1390680" y="1865160"/>
            <a:ext cx="5181480" cy="6289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189080" y="2597040"/>
            <a:ext cx="537048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1401840" y="3139920"/>
            <a:ext cx="5187960" cy="6699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7"/>
          <a:stretch/>
        </p:blipFill>
        <p:spPr>
          <a:xfrm>
            <a:off x="1749600" y="3780000"/>
            <a:ext cx="5181480" cy="6696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8"/>
          <a:stretch/>
        </p:blipFill>
        <p:spPr>
          <a:xfrm>
            <a:off x="1749600" y="4449600"/>
            <a:ext cx="5187600" cy="6652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9"/>
          <a:stretch/>
        </p:blipFill>
        <p:spPr>
          <a:xfrm>
            <a:off x="1200240" y="5048280"/>
            <a:ext cx="5371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4:21Z</dcterms:modified>
  <cp:revision>9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