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BD8-20BC-400F-9015-3FE9D78F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ED0-31AD-4849-80B0-1DA61821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108B-96FC-4C8C-A110-7FAF8C57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A88-411C-43E6-BE45-8D52B536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90E9-9B0D-4F82-81AA-A80E0D93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991-4D12-4EC7-A400-332927C0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B8E-8381-4099-B4AB-C9BB5FE4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A42-D298-4E52-894C-FB995255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DE12-AC5F-4E18-9105-1E783EC7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8A3-1BA0-4B6C-A3BA-B7635C4B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30C-0580-4AB3-9D32-4F3DC967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D6B-F6E7-47D5-BBEB-F506981D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1E95-505C-4C8F-AF66-F167F569995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5899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87440" y="1889280"/>
            <a:ext cx="907920" cy="64584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95160" y="1006560"/>
            <a:ext cx="7845480" cy="10112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907920" y="3067200"/>
            <a:ext cx="5962680" cy="4618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146240" y="3681360"/>
            <a:ext cx="3717720" cy="5191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189080" y="1901880"/>
            <a:ext cx="315756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8" descr=""/>
          <p:cNvPicPr/>
          <p:nvPr/>
        </p:nvPicPr>
        <p:blipFill>
          <a:blip r:embed="rId7"/>
          <a:stretch/>
        </p:blipFill>
        <p:spPr>
          <a:xfrm>
            <a:off x="4541760" y="2023920"/>
            <a:ext cx="39988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2" descr=""/>
          <p:cNvPicPr/>
          <p:nvPr/>
        </p:nvPicPr>
        <p:blipFill>
          <a:blip r:embed="rId2"/>
          <a:stretch/>
        </p:blipFill>
        <p:spPr>
          <a:xfrm>
            <a:off x="493560" y="2359080"/>
            <a:ext cx="8321760" cy="10126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4" descr=""/>
          <p:cNvPicPr/>
          <p:nvPr/>
        </p:nvPicPr>
        <p:blipFill>
          <a:blip r:embed="rId3"/>
          <a:stretch/>
        </p:blipFill>
        <p:spPr>
          <a:xfrm>
            <a:off x="738360" y="1042920"/>
            <a:ext cx="8021520" cy="13762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4"/>
          <a:stretch/>
        </p:blipFill>
        <p:spPr>
          <a:xfrm>
            <a:off x="920880" y="4552920"/>
            <a:ext cx="3267000" cy="6350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5"/>
          <a:stretch/>
        </p:blipFill>
        <p:spPr>
          <a:xfrm>
            <a:off x="901800" y="3249720"/>
            <a:ext cx="3517920" cy="109044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6"/>
          <a:stretch/>
        </p:blipFill>
        <p:spPr>
          <a:xfrm>
            <a:off x="1305000" y="5200560"/>
            <a:ext cx="4314600" cy="646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7"/>
          <a:stretch/>
        </p:blipFill>
        <p:spPr>
          <a:xfrm>
            <a:off x="4572000" y="3260880"/>
            <a:ext cx="3749760" cy="109188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13" descr=""/>
          <p:cNvPicPr/>
          <p:nvPr/>
        </p:nvPicPr>
        <p:blipFill>
          <a:blip r:embed="rId8"/>
          <a:stretch/>
        </p:blipFill>
        <p:spPr>
          <a:xfrm>
            <a:off x="4937040" y="4541760"/>
            <a:ext cx="367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2" descr=""/>
          <p:cNvPicPr/>
          <p:nvPr/>
        </p:nvPicPr>
        <p:blipFill>
          <a:blip r:embed="rId2"/>
          <a:stretch/>
        </p:blipFill>
        <p:spPr>
          <a:xfrm>
            <a:off x="463680" y="1878120"/>
            <a:ext cx="8326440" cy="731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4" descr=""/>
          <p:cNvPicPr/>
          <p:nvPr/>
        </p:nvPicPr>
        <p:blipFill>
          <a:blip r:embed="rId3"/>
          <a:stretch/>
        </p:blipFill>
        <p:spPr>
          <a:xfrm>
            <a:off x="706320" y="1006560"/>
            <a:ext cx="7950240" cy="10112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4"/>
          <a:stretch/>
        </p:blipFill>
        <p:spPr>
          <a:xfrm>
            <a:off x="920880" y="4797360"/>
            <a:ext cx="4279680" cy="6462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5"/>
          <a:stretch/>
        </p:blipFill>
        <p:spPr>
          <a:xfrm>
            <a:off x="895320" y="2571840"/>
            <a:ext cx="7742160" cy="6890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6"/>
          <a:stretch/>
        </p:blipFill>
        <p:spPr>
          <a:xfrm>
            <a:off x="901800" y="5383080"/>
            <a:ext cx="6761160" cy="68292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7"/>
          <a:stretch/>
        </p:blipFill>
        <p:spPr>
          <a:xfrm>
            <a:off x="914400" y="3260880"/>
            <a:ext cx="8113680" cy="7444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8"/>
          <a:stretch/>
        </p:blipFill>
        <p:spPr>
          <a:xfrm>
            <a:off x="920880" y="3975120"/>
            <a:ext cx="81136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34:14Z</dcterms:modified>
  <cp:revision>109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