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40F-1923-4DC0-9087-0CDB7AB5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785-5C23-4D8A-BFD2-84C26D10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CA5-94A4-44C2-9514-CE5FBABB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5E3-BB6F-425D-89BC-819B945C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F75-D493-4177-AAB7-85EA2A81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591-E634-4C91-B016-D357CCBC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70F-042E-4DF1-A304-115B9A44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A169-EA8C-4A6D-B96D-31830899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A75-6BA8-4F73-BDDE-E1C7126F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9C5-4419-46AC-99C6-1A8C4079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581-3656-4C87-A728-D9EA4FCA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DE0-1C56-4E7E-8C2C-4C7F0A00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6795-6907-4777-9AB1-DF9DB066A21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87360" y="1101600"/>
            <a:ext cx="83152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87440" y="1773360"/>
            <a:ext cx="6108480" cy="4633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50880" y="1085760"/>
            <a:ext cx="7851600" cy="65268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4"/>
          <a:stretch/>
        </p:blipFill>
        <p:spPr>
          <a:xfrm>
            <a:off x="5230800" y="3432240"/>
            <a:ext cx="2376360" cy="8906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822240" y="3956040"/>
            <a:ext cx="411480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523800" y="3413160"/>
            <a:ext cx="822960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517680" y="2876400"/>
            <a:ext cx="5889600" cy="4636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517680" y="2200320"/>
            <a:ext cx="50418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10T16:06:10Z</dcterms:modified>
  <cp:revision>65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