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C1BA-6E05-42B3-AB07-3EEADEFC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6A4B-6ED9-436C-8A7D-45C23C92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F364-87A7-49A7-B490-BF6D3638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877F-6ED4-4C33-A629-7589DDD7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E1F9-DA00-4E62-B9E2-D902C24D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CEE8-CCD3-4C5C-840B-72CE5F46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F81-B47D-4A7D-A81C-FC5F5BB1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BCD3-F368-4F87-9DE3-6C62773C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B407-9B54-495E-B0B5-E052CA19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8265-F8B8-4DD8-B2E9-0DC62035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C954-4608-4D4A-B473-6E9E3FB6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C683-EC28-4A19-9918-D3F0F39D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681E-11BA-4E84-8DCB-375B84EEE33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38836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590400" y="1006560"/>
            <a:ext cx="7974000" cy="101124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5950080" y="2266920"/>
            <a:ext cx="3120840" cy="85428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490680" y="3662280"/>
            <a:ext cx="2852640" cy="78732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938160" y="2857680"/>
            <a:ext cx="2035080" cy="7855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622440" y="1908000"/>
            <a:ext cx="2273040" cy="96840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1868400" y="4468680"/>
            <a:ext cx="1774800" cy="85248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20" descr=""/>
          <p:cNvPicPr/>
          <p:nvPr/>
        </p:nvPicPr>
        <p:blipFill>
          <a:blip r:embed="rId8"/>
          <a:stretch/>
        </p:blipFill>
        <p:spPr>
          <a:xfrm>
            <a:off x="5967360" y="3108240"/>
            <a:ext cx="3084480" cy="101304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9"/>
          <a:stretch/>
        </p:blipFill>
        <p:spPr>
          <a:xfrm>
            <a:off x="2752560" y="1908000"/>
            <a:ext cx="3297240" cy="96840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10"/>
          <a:stretch/>
        </p:blipFill>
        <p:spPr>
          <a:xfrm>
            <a:off x="3413160" y="2709720"/>
            <a:ext cx="329724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2" descr=""/>
          <p:cNvPicPr/>
          <p:nvPr/>
        </p:nvPicPr>
        <p:blipFill>
          <a:blip r:embed="rId2"/>
          <a:stretch/>
        </p:blipFill>
        <p:spPr>
          <a:xfrm>
            <a:off x="833400" y="5645160"/>
            <a:ext cx="2975040" cy="67644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3"/>
          <a:stretch/>
        </p:blipFill>
        <p:spPr>
          <a:xfrm>
            <a:off x="2158920" y="3736800"/>
            <a:ext cx="2846520" cy="46368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4"/>
          <a:stretch/>
        </p:blipFill>
        <p:spPr>
          <a:xfrm>
            <a:off x="1798560" y="2803680"/>
            <a:ext cx="3348000" cy="93312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5"/>
          <a:stretch/>
        </p:blipFill>
        <p:spPr>
          <a:xfrm>
            <a:off x="812880" y="4608360"/>
            <a:ext cx="5400720" cy="93852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6"/>
          <a:stretch/>
        </p:blipFill>
        <p:spPr>
          <a:xfrm>
            <a:off x="1314360" y="1197000"/>
            <a:ext cx="2597400" cy="68256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24" descr=""/>
          <p:cNvPicPr/>
          <p:nvPr/>
        </p:nvPicPr>
        <p:blipFill>
          <a:blip r:embed="rId7"/>
          <a:stretch/>
        </p:blipFill>
        <p:spPr>
          <a:xfrm>
            <a:off x="6127920" y="2147760"/>
            <a:ext cx="2609640" cy="5778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8"/>
          <a:stretch/>
        </p:blipFill>
        <p:spPr>
          <a:xfrm>
            <a:off x="3268800" y="5388120"/>
            <a:ext cx="4535280" cy="93348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9"/>
          <a:stretch/>
        </p:blipFill>
        <p:spPr>
          <a:xfrm>
            <a:off x="3240000" y="957240"/>
            <a:ext cx="3292560" cy="93204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10"/>
          <a:stretch/>
        </p:blipFill>
        <p:spPr>
          <a:xfrm>
            <a:off x="843120" y="1844640"/>
            <a:ext cx="3833640" cy="100476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13" descr=""/>
          <p:cNvPicPr/>
          <p:nvPr/>
        </p:nvPicPr>
        <p:blipFill>
          <a:blip r:embed="rId11"/>
          <a:stretch/>
        </p:blipFill>
        <p:spPr>
          <a:xfrm>
            <a:off x="5435640" y="4162320"/>
            <a:ext cx="3328920" cy="57960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12"/>
          <a:stretch/>
        </p:blipFill>
        <p:spPr>
          <a:xfrm>
            <a:off x="1130400" y="4210200"/>
            <a:ext cx="2852640" cy="46332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16" descr=""/>
          <p:cNvPicPr/>
          <p:nvPr/>
        </p:nvPicPr>
        <p:blipFill>
          <a:blip r:embed="rId13"/>
          <a:stretch/>
        </p:blipFill>
        <p:spPr>
          <a:xfrm>
            <a:off x="6141960" y="4883040"/>
            <a:ext cx="261000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extBox 4" descr=""/>
          <p:cNvPicPr/>
          <p:nvPr/>
        </p:nvPicPr>
        <p:blipFill>
          <a:blip r:embed="rId2"/>
          <a:stretch/>
        </p:blipFill>
        <p:spPr>
          <a:xfrm>
            <a:off x="5761080" y="1301760"/>
            <a:ext cx="3120840" cy="85896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3"/>
          <a:stretch/>
        </p:blipFill>
        <p:spPr>
          <a:xfrm>
            <a:off x="698400" y="995400"/>
            <a:ext cx="4681800" cy="125100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4"/>
          <a:stretch/>
        </p:blipFill>
        <p:spPr>
          <a:xfrm>
            <a:off x="4214880" y="2478240"/>
            <a:ext cx="3298680" cy="147456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5"/>
          <a:stretch/>
        </p:blipFill>
        <p:spPr>
          <a:xfrm>
            <a:off x="685800" y="2992320"/>
            <a:ext cx="397512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6"/>
          <a:stretch/>
        </p:blipFill>
        <p:spPr>
          <a:xfrm>
            <a:off x="689040" y="4456080"/>
            <a:ext cx="3975120" cy="67788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7"/>
          <a:stretch/>
        </p:blipFill>
        <p:spPr>
          <a:xfrm>
            <a:off x="4229280" y="3949560"/>
            <a:ext cx="32922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3:06:42Z</dcterms:modified>
  <cp:revision>96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