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C67-DBC2-4AAF-99E5-D9E385A3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34E2-B2CD-44FD-9C4D-448A5B82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2AAC-D02C-4229-8FA3-C1A61C02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7872-2CA2-40A0-A003-C7E2AB90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AF45-6DDC-40B4-A862-DE693474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1C2E-CB08-46A0-BE85-9F4262A0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A4E-96B2-4E2D-A3C4-624AE58F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94F4-3106-45CB-8C76-B567E9A2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BBE-0575-4499-9A82-B438F9BD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6F08-E67D-45A5-90A4-4D02E85C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8299-5EC7-4DFA-A3AB-782194ED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9FC-D550-4C3B-8480-48FF6302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83FA-24C2-4088-BEF2-973844A64B3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152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590400" y="944640"/>
            <a:ext cx="7944120" cy="109692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5742000" y="2114640"/>
            <a:ext cx="2811600" cy="15494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3541680" y="3797280"/>
            <a:ext cx="1852560" cy="7016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457200" y="1974960"/>
            <a:ext cx="5211720" cy="9205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487440" y="2987640"/>
            <a:ext cx="5595840" cy="10112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590400" y="5254560"/>
            <a:ext cx="3616560" cy="6336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536400" y="3902040"/>
            <a:ext cx="2597400" cy="4618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9"/>
          <a:stretch/>
        </p:blipFill>
        <p:spPr>
          <a:xfrm>
            <a:off x="469800" y="4645080"/>
            <a:ext cx="5407200" cy="69516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2023920" y="3816360"/>
            <a:ext cx="1657440" cy="63324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1"/>
          <a:stretch/>
        </p:blipFill>
        <p:spPr>
          <a:xfrm>
            <a:off x="2305080" y="5284800"/>
            <a:ext cx="25048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extBox 4" descr=""/>
          <p:cNvPicPr/>
          <p:nvPr/>
        </p:nvPicPr>
        <p:blipFill>
          <a:blip r:embed="rId2"/>
          <a:stretch/>
        </p:blipFill>
        <p:spPr>
          <a:xfrm>
            <a:off x="5999040" y="1030320"/>
            <a:ext cx="2760840" cy="82872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3"/>
          <a:stretch/>
        </p:blipFill>
        <p:spPr>
          <a:xfrm>
            <a:off x="2736720" y="969840"/>
            <a:ext cx="1530360" cy="6336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469800" y="2309760"/>
            <a:ext cx="2602080" cy="9208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487440" y="5541840"/>
            <a:ext cx="3828960" cy="6145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487440" y="1054080"/>
            <a:ext cx="1785960" cy="4636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2279520" y="2498760"/>
            <a:ext cx="6108840" cy="62244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8"/>
          <a:stretch/>
        </p:blipFill>
        <p:spPr>
          <a:xfrm>
            <a:off x="487440" y="1663560"/>
            <a:ext cx="2163600" cy="62244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2266920" y="1731960"/>
            <a:ext cx="2457360" cy="46836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0"/>
          <a:stretch/>
        </p:blipFill>
        <p:spPr>
          <a:xfrm>
            <a:off x="2279520" y="3127320"/>
            <a:ext cx="5164200" cy="61596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11"/>
          <a:stretch/>
        </p:blipFill>
        <p:spPr>
          <a:xfrm>
            <a:off x="2279520" y="3681360"/>
            <a:ext cx="5164200" cy="61596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12"/>
          <a:stretch/>
        </p:blipFill>
        <p:spPr>
          <a:xfrm>
            <a:off x="2279520" y="4260960"/>
            <a:ext cx="3840120" cy="62208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20" descr=""/>
          <p:cNvPicPr/>
          <p:nvPr/>
        </p:nvPicPr>
        <p:blipFill>
          <a:blip r:embed="rId13"/>
          <a:stretch/>
        </p:blipFill>
        <p:spPr>
          <a:xfrm>
            <a:off x="7029360" y="4346640"/>
            <a:ext cx="1730520" cy="101736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14"/>
          <a:stretch/>
        </p:blipFill>
        <p:spPr>
          <a:xfrm>
            <a:off x="2273400" y="4876920"/>
            <a:ext cx="384156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0:58:08Z</dcterms:modified>
  <cp:revision>121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