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81E-9922-4D88-BA38-883BFFDB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51C-35DF-4949-82FE-D15E51EC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34E-8C48-4CA8-B67F-046962D9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14F-9DFA-4D6E-A7CD-1399FD4A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022-CD16-4083-879E-BE2DE353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F1A-6899-4568-B06A-158380D8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C12-E806-4CF5-8643-0EBD6139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061-DE8C-4854-AFB5-36AF766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0B9-AD49-4CA2-AF9F-3FD7C11D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F46-FDAC-4814-B348-5DE5226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D6B-7E56-41A0-89AE-4CDD7F02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EAE-7186-4315-A289-BB1DBBB1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3DBF-6D9B-4CD1-BF28-F9D1EFC43E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217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79640"/>
            <a:ext cx="795492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738360" y="2494080"/>
            <a:ext cx="2889000" cy="6458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2"/>
          <p:cNvSpPr/>
          <p:nvPr/>
        </p:nvSpPr>
        <p:spPr>
          <a:xfrm>
            <a:off x="1763640" y="3429000"/>
            <a:ext cx="1638360" cy="1062000"/>
          </a:xfrm>
          <a:prstGeom prst="line">
            <a:avLst/>
          </a:prstGeom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6"/>
          <p:cNvSpPr/>
          <p:nvPr/>
        </p:nvSpPr>
        <p:spPr>
          <a:xfrm>
            <a:off x="1744560" y="3402000"/>
            <a:ext cx="73080" cy="7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3403440" y="4468680"/>
            <a:ext cx="71640" cy="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2332080" y="37846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1403280" y="2970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532320" y="42382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2449440" y="3418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944640" y="4979880"/>
            <a:ext cx="42498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950760" y="3365640"/>
            <a:ext cx="4249800" cy="12794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841320" y="2266920"/>
            <a:ext cx="2127240" cy="463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444680" y="2730600"/>
            <a:ext cx="1749240" cy="6159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944640" y="1085760"/>
            <a:ext cx="17794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963720" y="4711680"/>
            <a:ext cx="6699240" cy="128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938160" y="5913360"/>
            <a:ext cx="4249800" cy="676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3"/>
          <p:cNvSpPr/>
          <p:nvPr/>
        </p:nvSpPr>
        <p:spPr>
          <a:xfrm>
            <a:off x="6205680" y="3400560"/>
            <a:ext cx="2466720" cy="100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04a7b"/>
                </a:solidFill>
                <a:latin typeface="Calibri"/>
              </a:rPr>
              <a:t>There are other methods that you could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6:51Z</dcterms:modified>
  <cp:revision>110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