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5BE-4506-454D-AB68-7DA54FA6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C7F-45AA-4252-86CC-F194ABC1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249-9798-47AB-BC48-38378CE7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4BC-AEDE-48D4-ACE7-44B373B3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B19-6F18-43B5-8FC8-8FC0D929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AE4-551D-49AD-95EB-F1173D4D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853-8CA9-47C5-935D-8C87C923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D82-FD62-4614-A1E9-E891A683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722-6B73-430E-AF61-7B2AB6A1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6AE-2242-4619-8294-1441141A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25E-771F-4736-A6A7-9566EFFA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1BB-85B3-41F1-B941-1D6AD17C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2C8-437F-4A29-B38A-82F4B1ADAC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957240"/>
            <a:ext cx="7851960" cy="11034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176480" y="1932120"/>
            <a:ext cx="626112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76480" y="3395520"/>
            <a:ext cx="635148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365120" y="3913200"/>
            <a:ext cx="5359680" cy="6350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182600" y="4572000"/>
            <a:ext cx="630864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84200" y="5467320"/>
            <a:ext cx="744876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6188040" y="3906720"/>
            <a:ext cx="2151000" cy="646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6243480" y="5877000"/>
            <a:ext cx="2322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1285920" y="3425760"/>
            <a:ext cx="5095800" cy="744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781200" y="987480"/>
            <a:ext cx="80946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785880" y="2389320"/>
            <a:ext cx="805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957240" y="1517760"/>
            <a:ext cx="777240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5651640" y="2017800"/>
            <a:ext cx="318132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5645160" y="2770200"/>
            <a:ext cx="318780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1279440" y="4133880"/>
            <a:ext cx="5097600" cy="6760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1279440" y="4950000"/>
            <a:ext cx="431028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5651640" y="5145120"/>
            <a:ext cx="168264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774720" y="5651640"/>
            <a:ext cx="7856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811080" y="2494080"/>
            <a:ext cx="6583320" cy="5410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817560" y="3011400"/>
            <a:ext cx="3632040" cy="6336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811080" y="3627360"/>
            <a:ext cx="363240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2"/>
          <a:stretch/>
        </p:blipFill>
        <p:spPr>
          <a:xfrm>
            <a:off x="731880" y="2962440"/>
            <a:ext cx="8278920" cy="9572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3"/>
          <a:stretch/>
        </p:blipFill>
        <p:spPr>
          <a:xfrm>
            <a:off x="712800" y="1176480"/>
            <a:ext cx="7845480" cy="18954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4"/>
          <a:stretch/>
        </p:blipFill>
        <p:spPr>
          <a:xfrm>
            <a:off x="822240" y="3925800"/>
            <a:ext cx="7645320" cy="5428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5"/>
          <a:stretch/>
        </p:blipFill>
        <p:spPr>
          <a:xfrm>
            <a:off x="1298520" y="5407200"/>
            <a:ext cx="4608720" cy="6285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6"/>
          <a:stretch/>
        </p:blipFill>
        <p:spPr>
          <a:xfrm>
            <a:off x="828720" y="4468680"/>
            <a:ext cx="8639280" cy="90828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6" descr=""/>
          <p:cNvPicPr/>
          <p:nvPr/>
        </p:nvPicPr>
        <p:blipFill>
          <a:blip r:embed="rId7"/>
          <a:stretch/>
        </p:blipFill>
        <p:spPr>
          <a:xfrm>
            <a:off x="6145200" y="5187960"/>
            <a:ext cx="27241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1305000" y="1109520"/>
            <a:ext cx="5400720" cy="66384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1311120" y="1895400"/>
            <a:ext cx="54007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2" descr=""/>
          <p:cNvPicPr/>
          <p:nvPr/>
        </p:nvPicPr>
        <p:blipFill>
          <a:blip r:embed="rId2"/>
          <a:stretch/>
        </p:blipFill>
        <p:spPr>
          <a:xfrm>
            <a:off x="646200" y="1231920"/>
            <a:ext cx="8186760" cy="90792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811080" y="2286000"/>
            <a:ext cx="7637760" cy="5428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4"/>
          <a:stretch/>
        </p:blipFill>
        <p:spPr>
          <a:xfrm>
            <a:off x="1298520" y="3346560"/>
            <a:ext cx="5400720" cy="63504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5"/>
          <a:stretch/>
        </p:blipFill>
        <p:spPr>
          <a:xfrm>
            <a:off x="822240" y="2816280"/>
            <a:ext cx="4389480" cy="54288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6" descr=""/>
          <p:cNvPicPr/>
          <p:nvPr/>
        </p:nvPicPr>
        <p:blipFill>
          <a:blip r:embed="rId6"/>
          <a:stretch/>
        </p:blipFill>
        <p:spPr>
          <a:xfrm>
            <a:off x="5699160" y="3309840"/>
            <a:ext cx="2884320" cy="12319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7"/>
          <a:stretch/>
        </p:blipFill>
        <p:spPr>
          <a:xfrm>
            <a:off x="1249200" y="4017960"/>
            <a:ext cx="35546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2" descr=""/>
          <p:cNvPicPr/>
          <p:nvPr/>
        </p:nvPicPr>
        <p:blipFill>
          <a:blip r:embed="rId2"/>
          <a:stretch/>
        </p:blipFill>
        <p:spPr>
          <a:xfrm>
            <a:off x="1047600" y="1158840"/>
            <a:ext cx="8188560" cy="5414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3"/>
          <a:stretch/>
        </p:blipFill>
        <p:spPr>
          <a:xfrm>
            <a:off x="1225440" y="1725480"/>
            <a:ext cx="3425760" cy="5414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1255680" y="3846600"/>
            <a:ext cx="5456160" cy="54936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5"/>
          <a:stretch/>
        </p:blipFill>
        <p:spPr>
          <a:xfrm>
            <a:off x="811080" y="2419200"/>
            <a:ext cx="5613480" cy="5432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6" descr=""/>
          <p:cNvPicPr/>
          <p:nvPr/>
        </p:nvPicPr>
        <p:blipFill>
          <a:blip r:embed="rId6"/>
          <a:stretch/>
        </p:blipFill>
        <p:spPr>
          <a:xfrm>
            <a:off x="6523200" y="2462040"/>
            <a:ext cx="1882440" cy="7938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7"/>
          <a:stretch/>
        </p:blipFill>
        <p:spPr>
          <a:xfrm>
            <a:off x="1706400" y="4224240"/>
            <a:ext cx="3926160" cy="72576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8"/>
          <a:stretch/>
        </p:blipFill>
        <p:spPr>
          <a:xfrm>
            <a:off x="974880" y="2895480"/>
            <a:ext cx="5621040" cy="58608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1" descr=""/>
          <p:cNvPicPr/>
          <p:nvPr/>
        </p:nvPicPr>
        <p:blipFill>
          <a:blip r:embed="rId9"/>
          <a:stretch/>
        </p:blipFill>
        <p:spPr>
          <a:xfrm>
            <a:off x="6523200" y="3803760"/>
            <a:ext cx="1882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23:10Z</dcterms:modified>
  <cp:revision>15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