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EB9-4679-4759-BFF3-A8395D33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98A-122F-4366-92FC-9345A7BB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79E-2E49-4135-8BF5-6806E7C2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EBF-99DB-476B-B00C-FAA08A59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CCD-4B2D-46CE-88ED-2CE3C1F9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AF7-9ECF-45E4-9E80-D0BE108C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71B-4FF1-4113-A23F-10AFDD1C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B3F-7D35-4C69-9EED-72C16953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97C-36A5-46B9-BC9F-93EFF86F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9E9-0454-4EC3-85CD-A182D6E1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6A4-10FF-4661-86D3-694192F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5AF-B476-44FE-90A0-CAD7465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59FA-1A53-47DD-B5DD-6B39D4787B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09720" y="3286080"/>
            <a:ext cx="5572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004240" cy="101268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798480" y="20844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12" descr=""/>
          <p:cNvPicPr/>
          <p:nvPr/>
        </p:nvPicPr>
        <p:blipFill>
          <a:blip r:embed="rId4"/>
          <a:stretch/>
        </p:blipFill>
        <p:spPr>
          <a:xfrm>
            <a:off x="5791320" y="2193840"/>
            <a:ext cx="283500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5"/>
          <a:stretch/>
        </p:blipFill>
        <p:spPr>
          <a:xfrm>
            <a:off x="1328760" y="2133720"/>
            <a:ext cx="6407280" cy="5364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6"/>
          <a:stretch/>
        </p:blipFill>
        <p:spPr>
          <a:xfrm>
            <a:off x="1249200" y="2597040"/>
            <a:ext cx="649296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7"/>
          <a:stretch/>
        </p:blipFill>
        <p:spPr>
          <a:xfrm>
            <a:off x="1311120" y="3060720"/>
            <a:ext cx="362592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8"/>
          <a:stretch/>
        </p:blipFill>
        <p:spPr>
          <a:xfrm>
            <a:off x="5470560" y="3605040"/>
            <a:ext cx="306216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9"/>
          <a:stretch/>
        </p:blipFill>
        <p:spPr>
          <a:xfrm>
            <a:off x="1371600" y="3859200"/>
            <a:ext cx="2193840" cy="185256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10"/>
          <a:stretch/>
        </p:blipFill>
        <p:spPr>
          <a:xfrm>
            <a:off x="3328920" y="4803840"/>
            <a:ext cx="11271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4" descr=""/>
          <p:cNvPicPr/>
          <p:nvPr/>
        </p:nvPicPr>
        <p:blipFill>
          <a:blip r:embed="rId2"/>
          <a:stretch/>
        </p:blipFill>
        <p:spPr>
          <a:xfrm>
            <a:off x="689040" y="1054080"/>
            <a:ext cx="7845480" cy="174456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3"/>
          <a:stretch/>
        </p:blipFill>
        <p:spPr>
          <a:xfrm>
            <a:off x="798480" y="277344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4"/>
          <a:stretch/>
        </p:blipFill>
        <p:spPr>
          <a:xfrm>
            <a:off x="1298520" y="4608360"/>
            <a:ext cx="2266920" cy="5130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5"/>
          <a:stretch/>
        </p:blipFill>
        <p:spPr>
          <a:xfrm>
            <a:off x="1212840" y="2773440"/>
            <a:ext cx="7254720" cy="10126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6"/>
          <a:stretch/>
        </p:blipFill>
        <p:spPr>
          <a:xfrm>
            <a:off x="4286160" y="4237200"/>
            <a:ext cx="2187720" cy="18525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7"/>
          <a:stretch/>
        </p:blipFill>
        <p:spPr>
          <a:xfrm>
            <a:off x="6199200" y="5175360"/>
            <a:ext cx="112860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8"/>
          <a:stretch/>
        </p:blipFill>
        <p:spPr>
          <a:xfrm>
            <a:off x="1219320" y="3621240"/>
            <a:ext cx="72594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2" descr=""/>
          <p:cNvPicPr/>
          <p:nvPr/>
        </p:nvPicPr>
        <p:blipFill>
          <a:blip r:embed="rId2"/>
          <a:stretch/>
        </p:blipFill>
        <p:spPr>
          <a:xfrm>
            <a:off x="1371600" y="1109520"/>
            <a:ext cx="6151680" cy="77976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3"/>
          <a:stretch/>
        </p:blipFill>
        <p:spPr>
          <a:xfrm>
            <a:off x="1212840" y="3127320"/>
            <a:ext cx="196848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4"/>
          <a:stretch/>
        </p:blipFill>
        <p:spPr>
          <a:xfrm>
            <a:off x="1365120" y="3638520"/>
            <a:ext cx="3597480" cy="18241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5"/>
          <a:stretch/>
        </p:blipFill>
        <p:spPr>
          <a:xfrm>
            <a:off x="3389400" y="1847880"/>
            <a:ext cx="158436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6"/>
          <a:stretch/>
        </p:blipFill>
        <p:spPr>
          <a:xfrm>
            <a:off x="4078440" y="2498760"/>
            <a:ext cx="1584000" cy="78084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7"/>
          <a:stretch/>
        </p:blipFill>
        <p:spPr>
          <a:xfrm>
            <a:off x="1298520" y="5662440"/>
            <a:ext cx="309096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217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57200" y="2322360"/>
            <a:ext cx="9446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401840" y="2139840"/>
            <a:ext cx="6181560" cy="9208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1" descr=""/>
          <p:cNvPicPr/>
          <p:nvPr/>
        </p:nvPicPr>
        <p:blipFill>
          <a:blip r:embed="rId5"/>
          <a:stretch/>
        </p:blipFill>
        <p:spPr>
          <a:xfrm>
            <a:off x="6022800" y="2120760"/>
            <a:ext cx="252432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07920" y="3303720"/>
            <a:ext cx="3865680" cy="7506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895320" y="4048200"/>
            <a:ext cx="3859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480960" y="2840040"/>
            <a:ext cx="646920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4" descr=""/>
          <p:cNvPicPr/>
          <p:nvPr/>
        </p:nvPicPr>
        <p:blipFill>
          <a:blip r:embed="rId3"/>
          <a:stretch/>
        </p:blipFill>
        <p:spPr>
          <a:xfrm>
            <a:off x="682560" y="1085760"/>
            <a:ext cx="785196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0" descr=""/>
          <p:cNvPicPr/>
          <p:nvPr/>
        </p:nvPicPr>
        <p:blipFill>
          <a:blip r:embed="rId4"/>
          <a:stretch/>
        </p:blipFill>
        <p:spPr>
          <a:xfrm>
            <a:off x="6138720" y="4767120"/>
            <a:ext cx="2760840" cy="7383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480960" y="4475160"/>
            <a:ext cx="5523120" cy="1839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1170000" y="3571920"/>
            <a:ext cx="65530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506520" y="981000"/>
            <a:ext cx="552276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1542960" y="3114720"/>
            <a:ext cx="6345360" cy="6159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1298520" y="3859200"/>
            <a:ext cx="64375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23840"/>
            <a:ext cx="785196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3"/>
          <a:stretch/>
        </p:blipFill>
        <p:spPr>
          <a:xfrm>
            <a:off x="480960" y="2511360"/>
            <a:ext cx="6469200" cy="6955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5" descr=""/>
          <p:cNvPicPr/>
          <p:nvPr/>
        </p:nvPicPr>
        <p:blipFill>
          <a:blip r:embed="rId4"/>
          <a:stretch/>
        </p:blipFill>
        <p:spPr>
          <a:xfrm>
            <a:off x="5937120" y="2494080"/>
            <a:ext cx="2762280" cy="8395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1371600" y="3243240"/>
            <a:ext cx="6181560" cy="9208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3975120" y="4187880"/>
            <a:ext cx="2023920" cy="9205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1200240" y="5175360"/>
            <a:ext cx="3573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2" descr=""/>
          <p:cNvPicPr/>
          <p:nvPr/>
        </p:nvPicPr>
        <p:blipFill>
          <a:blip r:embed="rId2"/>
          <a:stretch/>
        </p:blipFill>
        <p:spPr>
          <a:xfrm>
            <a:off x="487440" y="2060640"/>
            <a:ext cx="552276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1328760" y="3475080"/>
            <a:ext cx="6419880" cy="468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1182600" y="1079640"/>
            <a:ext cx="655344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5" descr=""/>
          <p:cNvPicPr/>
          <p:nvPr/>
        </p:nvPicPr>
        <p:blipFill>
          <a:blip r:embed="rId5"/>
          <a:stretch/>
        </p:blipFill>
        <p:spPr>
          <a:xfrm>
            <a:off x="5943600" y="2030400"/>
            <a:ext cx="27622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2"/>
          <a:stretch/>
        </p:blipFill>
        <p:spPr>
          <a:xfrm>
            <a:off x="469800" y="1682640"/>
            <a:ext cx="5529240" cy="13780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4"/>
          <a:stretch/>
        </p:blipFill>
        <p:spPr>
          <a:xfrm>
            <a:off x="1401840" y="2809800"/>
            <a:ext cx="734544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5"/>
          <a:stretch/>
        </p:blipFill>
        <p:spPr>
          <a:xfrm>
            <a:off x="5797440" y="1762200"/>
            <a:ext cx="2749680" cy="10414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6"/>
          <a:stretch/>
        </p:blipFill>
        <p:spPr>
          <a:xfrm>
            <a:off x="2097000" y="4857840"/>
            <a:ext cx="4627800" cy="6411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7"/>
          <a:stretch/>
        </p:blipFill>
        <p:spPr>
          <a:xfrm>
            <a:off x="1274760" y="5699160"/>
            <a:ext cx="744840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8"/>
          <a:stretch/>
        </p:blipFill>
        <p:spPr>
          <a:xfrm>
            <a:off x="2103480" y="4017960"/>
            <a:ext cx="3797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52:20Z</dcterms:modified>
  <cp:revision>18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