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FD4-6C33-4025-A53D-745FB707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C3A-BDE1-4D40-B6F6-27785B1A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7C6-9095-4D7C-9D0F-D3BB4E7A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245-D189-4969-B108-8EE29574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263-8A1E-4EB2-8CB6-F65FA1B2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29A-AFA9-4CE5-B3C7-67270E90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95E-1739-4B16-AC95-1AD918A0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F43-F164-404F-908F-F0F1F72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CA3-F7C1-44F0-AE46-586CB473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FC5-9A47-4FA2-8BE1-C5D5BACF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F59-B3E3-407A-820C-7E343B0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D6B-7055-4ED4-A9DA-956FB490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A969-28C5-4D89-85F8-46ABE200D6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4675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44120" cy="8776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067440" y="2101680"/>
            <a:ext cx="2451240" cy="7876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627120" y="4017960"/>
            <a:ext cx="34002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03240" y="2725560"/>
            <a:ext cx="5133960" cy="5479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47840" y="1955880"/>
            <a:ext cx="227304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38120" y="3182760"/>
            <a:ext cx="5518080" cy="6940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2881440" y="1951200"/>
            <a:ext cx="3297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2098800" y="2706840"/>
            <a:ext cx="33480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901800" y="1073160"/>
            <a:ext cx="2597040" cy="8589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3165480" y="938160"/>
            <a:ext cx="329256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444600" y="1930320"/>
            <a:ext cx="46749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7:28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