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C58-2AC7-4A75-97AC-7715BC8E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AF2-8A82-4CEB-86D3-56B76CD7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905-596C-424E-990B-000CF4B0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352-CEA4-4358-A632-CDAC6610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4DC-BA9B-4A0F-8CBD-D3860405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58B-525D-451E-99F6-535A86C1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756-6218-484F-B23D-2F01EE41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D3F-6593-4F7A-AA49-4FEB6615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9E76-D231-41C8-8809-270C7446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E1EC-3A75-444A-BDED-0E67824B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82F-272F-4FDA-ACE4-6D8BFDD7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B5BF-273F-48CE-A0D9-69CDC463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CF71-F1F5-4FD5-8BDC-65D6CACFCB9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15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62000"/>
            <a:ext cx="8180640" cy="6480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859040" y="3041640"/>
            <a:ext cx="2133360" cy="4636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963720" y="2419200"/>
            <a:ext cx="5095800" cy="6955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2176560" y="3456000"/>
            <a:ext cx="1584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2"/>
          <a:stretch/>
        </p:blipFill>
        <p:spPr>
          <a:xfrm>
            <a:off x="493560" y="1962000"/>
            <a:ext cx="8180640" cy="6480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4"/>
          <a:stretch/>
        </p:blipFill>
        <p:spPr>
          <a:xfrm>
            <a:off x="1841400" y="2968560"/>
            <a:ext cx="213372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5"/>
          <a:stretch/>
        </p:blipFill>
        <p:spPr>
          <a:xfrm>
            <a:off x="963720" y="2419200"/>
            <a:ext cx="5095800" cy="69552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6"/>
          <a:stretch/>
        </p:blipFill>
        <p:spPr>
          <a:xfrm>
            <a:off x="2266920" y="3402000"/>
            <a:ext cx="153036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62000"/>
            <a:ext cx="8180640" cy="6480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901800" y="3151080"/>
            <a:ext cx="2133360" cy="5558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890640" y="2419200"/>
            <a:ext cx="5089320" cy="6955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3206880" y="3151080"/>
            <a:ext cx="3022560" cy="54936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841320" y="3949560"/>
            <a:ext cx="4816440" cy="5130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987480" y="4559400"/>
            <a:ext cx="2766960" cy="5428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828720" y="5157720"/>
            <a:ext cx="27684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8T10:41:26Z</dcterms:modified>
  <cp:revision>8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