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E41-0E8D-4766-8A03-C012E9F0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6B4-3CA6-4863-B16B-B3231874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B7E-B5B6-441B-8102-087C5A65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B28-835D-4AF4-8C9A-7289698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CCB-DFA3-4D41-8F08-356DDE6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A61-4115-4613-A3FB-54C06009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185-E916-48B2-97F9-ECCD6F94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A08-9DE2-4F2E-9036-7335E3D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AD7-3A3D-49B1-B25C-2136275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B11-CF3D-4B8B-B213-6C77FA9E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B6E-4F09-45B6-9E01-3595862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C07-9F4F-4318-B2B3-671C0EF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23B-B845-4C96-AA26-D57DF0B122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29280" y="2724120"/>
            <a:ext cx="246852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2157480" y="537048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21272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0960" y="2792520"/>
            <a:ext cx="5595840" cy="633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63680" y="4432320"/>
            <a:ext cx="53467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665280" y="3614760"/>
            <a:ext cx="2601720" cy="676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193840" y="3633840"/>
            <a:ext cx="2597400" cy="663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69960" y="5327640"/>
            <a:ext cx="1658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4" descr=""/>
          <p:cNvPicPr/>
          <p:nvPr/>
        </p:nvPicPr>
        <p:blipFill>
          <a:blip r:embed="rId2"/>
          <a:stretch/>
        </p:blipFill>
        <p:spPr>
          <a:xfrm>
            <a:off x="6224760" y="1878120"/>
            <a:ext cx="245556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023920" y="5010120"/>
            <a:ext cx="11574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450720" y="12128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480960" y="4492800"/>
            <a:ext cx="523728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6640" y="3986280"/>
            <a:ext cx="1805040" cy="506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824120" y="3930480"/>
            <a:ext cx="1365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536400" y="5048280"/>
            <a:ext cx="16574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450720" y="1914480"/>
            <a:ext cx="56880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731960" y="23652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1731960" y="28224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469800" y="3382920"/>
            <a:ext cx="5686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3"/>
          <a:stretch/>
        </p:blipFill>
        <p:spPr>
          <a:xfrm>
            <a:off x="2444760" y="3968640"/>
            <a:ext cx="1803240" cy="5065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4"/>
          <a:stretch/>
        </p:blipFill>
        <p:spPr>
          <a:xfrm>
            <a:off x="2610000" y="5052960"/>
            <a:ext cx="17967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0:22Z</dcterms:modified>
  <cp:revision>11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