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0A2-A3A9-46E9-AC1C-83CE9E57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5F5-2C92-467C-8499-C0732857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72D-3EAB-4CE8-A347-6B7F4632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C33-401E-4D29-92F1-AF06DC35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7D5-98D8-4C0B-ADE0-6FFDEF8C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F61-6E6E-4138-AC6B-1F546802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DC5-49C7-45B2-A510-64ABE717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1C6-8F73-45F6-B09C-9795AADC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6C1-1835-4237-988D-01F2F8D2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148-ABCB-4842-A67A-B3BA51B4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1F5-12DF-48B8-BD03-299D373F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331-3AAE-4ECD-986A-53593E38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40A8-755C-49BF-BD07-6EF70CACBFE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773360" y="3286080"/>
            <a:ext cx="55353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4" descr=""/>
          <p:cNvPicPr/>
          <p:nvPr/>
        </p:nvPicPr>
        <p:blipFill>
          <a:blip r:embed="rId2"/>
          <a:stretch/>
        </p:blipFill>
        <p:spPr>
          <a:xfrm>
            <a:off x="755640" y="1011240"/>
            <a:ext cx="7845480" cy="162252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2" descr=""/>
          <p:cNvPicPr/>
          <p:nvPr/>
        </p:nvPicPr>
        <p:blipFill>
          <a:blip r:embed="rId3"/>
          <a:stretch/>
        </p:blipFill>
        <p:spPr>
          <a:xfrm>
            <a:off x="5084640" y="3657600"/>
            <a:ext cx="3821400" cy="58572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4"/>
          <a:stretch/>
        </p:blipFill>
        <p:spPr>
          <a:xfrm>
            <a:off x="469800" y="2687760"/>
            <a:ext cx="8186760" cy="64584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5"/>
          <a:stretch/>
        </p:blipFill>
        <p:spPr>
          <a:xfrm>
            <a:off x="2127240" y="3187800"/>
            <a:ext cx="3773520" cy="5428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6"/>
          <a:stretch/>
        </p:blipFill>
        <p:spPr>
          <a:xfrm>
            <a:off x="1335240" y="3730680"/>
            <a:ext cx="3773160" cy="46332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7"/>
          <a:stretch/>
        </p:blipFill>
        <p:spPr>
          <a:xfrm>
            <a:off x="1322280" y="4194000"/>
            <a:ext cx="3773520" cy="4636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8"/>
          <a:stretch/>
        </p:blipFill>
        <p:spPr>
          <a:xfrm>
            <a:off x="1352520" y="4638600"/>
            <a:ext cx="71215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2" descr=""/>
          <p:cNvPicPr/>
          <p:nvPr/>
        </p:nvPicPr>
        <p:blipFill>
          <a:blip r:embed="rId2"/>
          <a:stretch/>
        </p:blipFill>
        <p:spPr>
          <a:xfrm>
            <a:off x="2090880" y="2316240"/>
            <a:ext cx="2047680" cy="61596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3"/>
          <a:stretch/>
        </p:blipFill>
        <p:spPr>
          <a:xfrm>
            <a:off x="1335240" y="2938320"/>
            <a:ext cx="4760640" cy="84780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4"/>
          <a:stretch/>
        </p:blipFill>
        <p:spPr>
          <a:xfrm>
            <a:off x="1328760" y="1006560"/>
            <a:ext cx="5346720" cy="87768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5"/>
          <a:stretch/>
        </p:blipFill>
        <p:spPr>
          <a:xfrm>
            <a:off x="1316160" y="1901880"/>
            <a:ext cx="3779640" cy="46332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6"/>
          <a:stretch/>
        </p:blipFill>
        <p:spPr>
          <a:xfrm>
            <a:off x="1347840" y="4511520"/>
            <a:ext cx="3741840" cy="8416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10" descr=""/>
          <p:cNvPicPr/>
          <p:nvPr/>
        </p:nvPicPr>
        <p:blipFill>
          <a:blip r:embed="rId7"/>
          <a:stretch/>
        </p:blipFill>
        <p:spPr>
          <a:xfrm>
            <a:off x="6235560" y="2987640"/>
            <a:ext cx="2494080" cy="74304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8"/>
          <a:stretch/>
        </p:blipFill>
        <p:spPr>
          <a:xfrm>
            <a:off x="1341360" y="3968640"/>
            <a:ext cx="41752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47600"/>
            <a:ext cx="840744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3264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26960" y="191448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92504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182600" y="2548080"/>
            <a:ext cx="22734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1255680" y="1901880"/>
            <a:ext cx="61880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1066680" y="3664080"/>
            <a:ext cx="4395960" cy="645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1" descr=""/>
          <p:cNvPicPr/>
          <p:nvPr/>
        </p:nvPicPr>
        <p:blipFill>
          <a:blip r:embed="rId7"/>
          <a:stretch/>
        </p:blipFill>
        <p:spPr>
          <a:xfrm>
            <a:off x="6175440" y="1889280"/>
            <a:ext cx="2401920" cy="85392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1116000" y="3041640"/>
            <a:ext cx="46148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9552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4"/>
          <a:stretch/>
        </p:blipFill>
        <p:spPr>
          <a:xfrm>
            <a:off x="878040" y="2597040"/>
            <a:ext cx="724212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5"/>
          <a:stretch/>
        </p:blipFill>
        <p:spPr>
          <a:xfrm>
            <a:off x="871560" y="3139920"/>
            <a:ext cx="5522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646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890640" y="2425680"/>
            <a:ext cx="4821120" cy="646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1195560" y="3333600"/>
            <a:ext cx="2315880" cy="64800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5" descr=""/>
          <p:cNvPicPr/>
          <p:nvPr/>
        </p:nvPicPr>
        <p:blipFill>
          <a:blip r:embed="rId6"/>
          <a:stretch/>
        </p:blipFill>
        <p:spPr>
          <a:xfrm>
            <a:off x="5999040" y="2193840"/>
            <a:ext cx="2548080" cy="7938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7"/>
          <a:stretch/>
        </p:blipFill>
        <p:spPr>
          <a:xfrm>
            <a:off x="884160" y="2828880"/>
            <a:ext cx="482760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8" descr=""/>
          <p:cNvPicPr/>
          <p:nvPr/>
        </p:nvPicPr>
        <p:blipFill>
          <a:blip r:embed="rId8"/>
          <a:stretch/>
        </p:blipFill>
        <p:spPr>
          <a:xfrm>
            <a:off x="5999040" y="3005280"/>
            <a:ext cx="254808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9"/>
          <a:stretch/>
        </p:blipFill>
        <p:spPr>
          <a:xfrm>
            <a:off x="1238400" y="3754440"/>
            <a:ext cx="3162240" cy="5493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0"/>
          <a:stretch/>
        </p:blipFill>
        <p:spPr>
          <a:xfrm>
            <a:off x="1238400" y="5157720"/>
            <a:ext cx="5546520" cy="6462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1"/>
          <a:stretch/>
        </p:blipFill>
        <p:spPr>
          <a:xfrm>
            <a:off x="1189080" y="5772240"/>
            <a:ext cx="558972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2"/>
          <a:stretch/>
        </p:blipFill>
        <p:spPr>
          <a:xfrm>
            <a:off x="1195560" y="4255920"/>
            <a:ext cx="55832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33440" y="1994040"/>
            <a:ext cx="5540400" cy="64584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4" descr=""/>
          <p:cNvPicPr/>
          <p:nvPr/>
        </p:nvPicPr>
        <p:blipFill>
          <a:blip r:embed="rId3"/>
          <a:stretch/>
        </p:blipFill>
        <p:spPr>
          <a:xfrm>
            <a:off x="682560" y="950760"/>
            <a:ext cx="785196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914400" y="5010120"/>
            <a:ext cx="5400720" cy="7444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1200240" y="2620800"/>
            <a:ext cx="4962600" cy="5493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865080" y="3664080"/>
            <a:ext cx="6589800" cy="64584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6175440" y="3328920"/>
            <a:ext cx="2639880" cy="79236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2120760" y="3078000"/>
            <a:ext cx="4889520" cy="54936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9"/>
          <a:stretch/>
        </p:blipFill>
        <p:spPr>
          <a:xfrm>
            <a:off x="1884240" y="4187880"/>
            <a:ext cx="487692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11" descr=""/>
          <p:cNvPicPr/>
          <p:nvPr/>
        </p:nvPicPr>
        <p:blipFill>
          <a:blip r:embed="rId10"/>
          <a:stretch/>
        </p:blipFill>
        <p:spPr>
          <a:xfrm>
            <a:off x="6218280" y="4273560"/>
            <a:ext cx="2487600" cy="74916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11"/>
          <a:stretch/>
        </p:blipFill>
        <p:spPr>
          <a:xfrm>
            <a:off x="1347840" y="4591080"/>
            <a:ext cx="4876920" cy="46188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12"/>
          <a:stretch/>
        </p:blipFill>
        <p:spPr>
          <a:xfrm>
            <a:off x="914400" y="5626080"/>
            <a:ext cx="71499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2" descr=""/>
          <p:cNvPicPr/>
          <p:nvPr/>
        </p:nvPicPr>
        <p:blipFill>
          <a:blip r:embed="rId2"/>
          <a:stretch/>
        </p:blipFill>
        <p:spPr>
          <a:xfrm>
            <a:off x="480960" y="1798560"/>
            <a:ext cx="1354320" cy="64620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12" descr=""/>
          <p:cNvPicPr/>
          <p:nvPr/>
        </p:nvPicPr>
        <p:blipFill>
          <a:blip r:embed="rId4"/>
          <a:stretch/>
        </p:blipFill>
        <p:spPr>
          <a:xfrm>
            <a:off x="1401840" y="4651200"/>
            <a:ext cx="5492520" cy="161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5"/>
          <a:stretch/>
        </p:blipFill>
        <p:spPr>
          <a:xfrm>
            <a:off x="1403280" y="1698480"/>
            <a:ext cx="49816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4" descr=""/>
          <p:cNvPicPr/>
          <p:nvPr/>
        </p:nvPicPr>
        <p:blipFill>
          <a:blip r:embed="rId2"/>
          <a:stretch/>
        </p:blipFill>
        <p:spPr>
          <a:xfrm>
            <a:off x="676440" y="1085760"/>
            <a:ext cx="8010360" cy="18590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3"/>
          <a:stretch/>
        </p:blipFill>
        <p:spPr>
          <a:xfrm>
            <a:off x="1189080" y="3524400"/>
            <a:ext cx="4174920" cy="6458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4"/>
          <a:stretch/>
        </p:blipFill>
        <p:spPr>
          <a:xfrm>
            <a:off x="469800" y="2919240"/>
            <a:ext cx="81867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37:06Z</dcterms:modified>
  <cp:revision>15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