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DB9-8359-4CE1-AEFE-A7B9CF92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DB1-9465-4264-9B4B-5E82028D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FEC-476F-4117-8E37-29130019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E2A-C2A1-4DA6-B112-DECCBFF3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C6A-778E-4841-8A4B-4D5BC82B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8FD-3019-4151-87D0-4B0A49C1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7F7-DF5F-4E69-A9F7-24518CB1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6A9-E3DE-4CEE-9BAD-15EA0BB1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EA7-085F-43DB-BD00-7401C39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53B-CA46-4B39-9257-ADC87F2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DF3-8834-432B-AFE2-EE915EDA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888-9040-481A-B3F6-A033FCAC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7F66-C3B4-4C20-B669-E56977514E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000080" y="2438280"/>
            <a:ext cx="508968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2090880" y="3048120"/>
            <a:ext cx="379224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6360" y="1920960"/>
            <a:ext cx="537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76280" y="1962000"/>
            <a:ext cx="8326440" cy="6843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285920" y="2639880"/>
            <a:ext cx="30416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2" descr=""/>
          <p:cNvPicPr/>
          <p:nvPr/>
        </p:nvPicPr>
        <p:blipFill>
          <a:blip r:embed="rId5"/>
          <a:stretch/>
        </p:blipFill>
        <p:spPr>
          <a:xfrm>
            <a:off x="5657760" y="1920960"/>
            <a:ext cx="2889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596880" y="1865160"/>
            <a:ext cx="805968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914400" y="3492360"/>
            <a:ext cx="6918480" cy="10130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2865600" y="2346480"/>
            <a:ext cx="340668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3371760" y="2755800"/>
            <a:ext cx="2419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0:19Z</dcterms:modified>
  <cp:revision>8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