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E8D-E66A-4069-9877-C6C45275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397-7B92-475E-A2E8-686FE15B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6C3-EAEA-411C-82C4-5B9BDDEE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02C-4D21-4611-B3F4-7D782B53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9D2-20FC-45E8-9141-85791167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854A-4509-48F4-A00F-1C4FC25B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E511-1D69-4598-A1CD-90B1E76F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E5E-B365-4343-A1B1-189A0597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8FD-9FD3-4C88-8620-4379E858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64A-EA0D-4C5E-8C0E-60ADFC6C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944-FB2C-40D5-8E96-1CA10D1C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FFB9-5E8B-4A71-B9B5-99F0B922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D662-EAFC-4CA8-A3FA-7DA67BDD4DA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90600" y="1023840"/>
            <a:ext cx="8296200" cy="1683000"/>
          </a:xfrm>
          <a:prstGeom prst="rect">
            <a:avLst/>
          </a:prstGeom>
          <a:ln w="0">
            <a:noFill/>
          </a:ln>
        </p:spPr>
      </p:pic>
      <p:pic>
        <p:nvPicPr>
          <p:cNvPr id="44" name="Content Placeholder 4" descr=""/>
          <p:cNvPicPr/>
          <p:nvPr/>
        </p:nvPicPr>
        <p:blipFill>
          <a:blip r:embed="rId3"/>
          <a:stretch/>
        </p:blipFill>
        <p:spPr>
          <a:xfrm>
            <a:off x="2755800" y="1779480"/>
            <a:ext cx="5842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163520"/>
            <a:ext cx="7851960" cy="10796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785880" y="3413160"/>
            <a:ext cx="176832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682560" y="2382840"/>
            <a:ext cx="482760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19" descr=""/>
          <p:cNvPicPr/>
          <p:nvPr/>
        </p:nvPicPr>
        <p:blipFill>
          <a:blip r:embed="rId5"/>
          <a:stretch/>
        </p:blipFill>
        <p:spPr>
          <a:xfrm>
            <a:off x="6516720" y="2425680"/>
            <a:ext cx="1994040" cy="1146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981000" y="4505400"/>
            <a:ext cx="7845480" cy="10602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1152360" y="3943440"/>
            <a:ext cx="241308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974880" y="1030320"/>
            <a:ext cx="438912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32" descr=""/>
          <p:cNvPicPr/>
          <p:nvPr/>
        </p:nvPicPr>
        <p:blipFill>
          <a:blip r:embed="rId3"/>
          <a:stretch/>
        </p:blipFill>
        <p:spPr>
          <a:xfrm>
            <a:off x="5962680" y="1285920"/>
            <a:ext cx="2565360" cy="9572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4"/>
          <a:stretch/>
        </p:blipFill>
        <p:spPr>
          <a:xfrm>
            <a:off x="2871720" y="2309760"/>
            <a:ext cx="4383000" cy="7873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2865600" y="3206880"/>
            <a:ext cx="43891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31:51Z</dcterms:modified>
  <cp:revision>124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