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744-03A5-4106-BFE0-B6E31627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F5E-327A-481C-B609-D3D4D085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720-7163-40C9-8015-05BCC4D3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A68-5313-48EA-AFD5-EE117EDE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603-0F96-4381-B5D3-D6E4A74C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C37-69AC-4357-B342-0BDE0369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18C-DBB1-43C4-8EA6-6470FD5B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303-D32C-442E-B09A-C465D8BF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E46-EEFC-464E-AE01-41A1C72E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2320-7929-4577-9958-6D032B96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ADD-A4D4-4795-9190-B685012F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DBB-921D-4B25-AD5D-1A9EE065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D98D-8B17-45BD-B478-9594D100F7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7120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06560"/>
            <a:ext cx="828540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5950080" y="2249640"/>
            <a:ext cx="2554200" cy="11458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3840120" y="3260880"/>
            <a:ext cx="1408320" cy="6458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689040" y="2017800"/>
            <a:ext cx="416412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69800" y="2670120"/>
            <a:ext cx="374184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981000" y="3309840"/>
            <a:ext cx="2505240" cy="5065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1925640" y="3706920"/>
            <a:ext cx="3206880" cy="73656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3" descr=""/>
          <p:cNvPicPr/>
          <p:nvPr/>
        </p:nvPicPr>
        <p:blipFill>
          <a:blip r:embed="rId9"/>
          <a:stretch/>
        </p:blipFill>
        <p:spPr>
          <a:xfrm>
            <a:off x="5950080" y="4584600"/>
            <a:ext cx="2450880" cy="57312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463680" y="4541760"/>
            <a:ext cx="408924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2882880" y="5010120"/>
            <a:ext cx="28782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4" descr=""/>
          <p:cNvPicPr/>
          <p:nvPr/>
        </p:nvPicPr>
        <p:blipFill>
          <a:blip r:embed="rId2"/>
          <a:stretch/>
        </p:blipFill>
        <p:spPr>
          <a:xfrm>
            <a:off x="5657760" y="2335320"/>
            <a:ext cx="2724120" cy="9079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596880" y="5138640"/>
            <a:ext cx="3865680" cy="9208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1030320" y="3749760"/>
            <a:ext cx="1388880" cy="7430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566640" y="2298600"/>
            <a:ext cx="5042160" cy="6462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566640" y="2792520"/>
            <a:ext cx="3919680" cy="10112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566640" y="927000"/>
            <a:ext cx="2914920" cy="73656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13" descr=""/>
          <p:cNvPicPr/>
          <p:nvPr/>
        </p:nvPicPr>
        <p:blipFill>
          <a:blip r:embed="rId8"/>
          <a:stretch/>
        </p:blipFill>
        <p:spPr>
          <a:xfrm>
            <a:off x="5657760" y="3949560"/>
            <a:ext cx="2797200" cy="11890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566640" y="4614840"/>
            <a:ext cx="465156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0"/>
          <a:stretch/>
        </p:blipFill>
        <p:spPr>
          <a:xfrm>
            <a:off x="579600" y="1511280"/>
            <a:ext cx="2876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09:00Z</dcterms:modified>
  <cp:revision>10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